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8CC-3E65-48BC-9147-12C2BAF8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C55-CD7C-441F-BC46-48A03D82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FC2-BB10-4517-B43D-14E553E9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E43-46F3-4829-9F96-28FF8C6F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A11-AC90-4972-A75D-BF6CC164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80A-956C-4CBB-A6EC-FA655C07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49E-EF72-4B5C-8E09-A8FB2FD8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A3B-F14D-429B-948E-136D8D7D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9EC-8CB7-4E2B-BA49-DDE2A96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D73-FA90-4785-A42B-C8E26213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A68-07A2-48CB-A1DC-3B9DE41A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D5F-27A6-4262-BED1-3031DEB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7A71-5AA4-47FC-A9CD-654695F65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1 AND W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B, RO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-171360" y="53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: Develop ideas to inform the initial training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2: International training manual meeting and draft training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3: Introductory core training on participatory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4: Organizing and delivering 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5: Training the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6: Improving and finalizing the initial training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7: Capacity building as directed by roma children during their WS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-171360" y="53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g was carried in Tim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ra (10 particip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g scheduled in Cluj-Napoca in following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re 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-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carried in Cluj-Napoca during May 11-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livered by Cath and Andy on May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15 at B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livered for 35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ia Ma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15.10.2015 – 18 per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23.10.2015 – 11 per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j-Nap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02.11.2015 – 6 pers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tent covered several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ER description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gic 6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liverables – evaluation forms and consent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– emerg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cruiting and motivating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ical 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ing for th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evaluation sheets, difficult for some children to f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available for implementing futur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follow-up of th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s are toward the in all 3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meeting before December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8T17:31:02Z</dcterms:created>
  <dc:creator>Mihai</dc:creator>
  <dc:description/>
  <dc:language>en-US</dc:language>
  <cp:lastModifiedBy>Veronica Somesan</cp:lastModifiedBy>
  <dcterms:modified xsi:type="dcterms:W3CDTF">2016-06-03T10:22:5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