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43A-D6C3-4309-9B93-4D26D794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C89-4E5A-4139-9232-FEFA32AF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917-984C-4ADA-A69C-E186C9E8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2E2-43C8-4881-9834-CF21EF96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FE3-6E70-4942-AD4F-E95B3214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594-5410-493E-8568-14D8D18F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628-99FF-4049-95BC-A5F58424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0C4-5374-428C-80ED-69A21835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6E1-4D74-48DE-A1C4-6D8ED78B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3A4-58DB-4461-92B4-D83BB8EA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8C9-0638-4FE5-B567-2DA9BBD7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D20-96B2-46CD-B387-4365AF13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E2C1-A64B-456A-A073-69680502B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1 AND W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B, ROM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-171360" y="53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1: Develop ideas to inform the initial training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2: International training manual meeting and draft training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3: Introductory core training on participatory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4: Organizing and delivering 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5: Training the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6: Improving and finalizing the initial training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7: Capacity building as directed by roma children during their WS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-171360" y="53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g was carried in Tim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ra (10 particip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g scheduled in Cluj-Napoca in following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are 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-152280" y="5151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2-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carried in Cluj-Napoca during May 11-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elivered by Cath and Andy on May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015 at B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-152280" y="5151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elivered for 35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ia Ma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15.10.2015 – 18 per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23.10.2015 – 11 per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j-Nap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02.11.2015 – 6 pers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tent covered several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ER description and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agic 6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liverables – evaluation forms and consent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-152280" y="5151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– emerg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cruiting and motivating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ical 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ing for th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evaluation sheets, difficult for some children to f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available for implementing futur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follow-up of th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-152280" y="5151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s are toward the in all 3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meeting before December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90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1647720" cy="8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2162160" cy="74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799920" cy="723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4284000" y="3242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4284000" y="428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-152280" y="5151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8T17:31:02Z</dcterms:created>
  <dc:creator>Mihai</dc:creator>
  <dc:description/>
  <dc:language>en-US</dc:language>
  <cp:lastModifiedBy>Veronica Somesan</cp:lastModifiedBy>
  <dcterms:modified xsi:type="dcterms:W3CDTF">2016-06-03T10:22:5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